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6D1-EE35-410F-AFFE-1CC7B080B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reated for PreK-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, but can be used for any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asy to save and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Has a few formatting choices- children will not spend too much time form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lters out common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638-BD75-418E-BC26-8FA9B23A2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tains a few more formatting cho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Must have an email account to save. Once saved a link appears to download the word cloud without going to the em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lters out inappropriat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asy to pr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7F63-EB3F-4099-83AD-967CD55D3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is site is advanced- meaning it has many formatting cho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t is free and does not require an em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ord cloud forms a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ightness-the higher the number the more the shape fill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mphasis- the higher the number the larger the repeated words become. 1.00 looks like woor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Déjà vu- color codes simila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You can upload your OWN image. Go to shape…add image…browse and find the image that you w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4F9-D47E-47B1-9BCF-B5CBE4D8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10E-967E-41BB-99A9-3E73201E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5F5-E947-4525-8B4E-3B7E07AA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C45-11D7-490A-A395-020B0552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93B-6E91-40DA-9344-2F892AAB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D34E-DDCE-4722-AC0B-40DD0B80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EBF4-4545-49B3-B557-BBC3CA07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717E-3BA5-466B-8006-C3C7AAC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359-6171-493D-9E3E-D1777FA1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217B-7893-4E92-9C05-668EB2A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D051-104C-460C-A202-064C7297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8031-C770-4002-8998-F6EE5A7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30A-832E-4CD7-86EE-B9ED13A1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3D77-C58A-4692-9809-73B9366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2366-10D4-4A3F-B812-CA6C9190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2371-2F6F-490E-BEFA-A133B09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FDC0-4422-459E-B3B7-65DB375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D8CF-8BBE-4DB0-B6EA-7B23E778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AD0D8-0916-45EB-BE41-E4D0C37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A97AB-25CA-4DA7-98A3-72AD071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054CE-B1B4-4B94-9C22-9199D59D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5395E-307E-49E7-BBC3-02B8AC3F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11CB9-AB2C-4932-9EE5-55C0098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E71-3EB4-4E78-918C-6AAC4003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9488C-8C5F-43DC-8CCD-6356204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603D7-4985-44EF-AC87-5E8A398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4D6A9-EE8D-4BDA-AF8B-D9737C6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7C055-E82D-41AF-A488-C4B916E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D7E60-81F0-4E5C-A2B9-0564074A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AD9FD-17FA-4E4A-98FD-BCD8B837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3A4E3-2711-47F7-9C22-995C0ED6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FCC94-89E8-47CF-A184-471F9488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0C68E-624F-4E01-A9D2-865EC015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DC50E-FA4C-4FED-BDC2-1BE3C8C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B28-C5F2-4B60-8CB7-BC5614E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C877F-C63E-45F0-9789-F481D4E5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C705C-E09F-401F-9A69-51C88768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3EA0A-F199-4CE3-9AF6-DC6178A3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6C6DA-72F1-480C-BF7E-6A263E9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96B39-7B80-4D37-869B-0D07B046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145AE-3DF5-449C-B87E-DE5538C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60570-6AF2-454F-9290-67EE89E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6DD12-C301-428B-85D0-01577F3F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42E5C-D0C5-4670-B9B3-C2A85F67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CF3E4-2635-4CC0-8583-492665D0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F84-869B-460D-A2E1-4B6FD45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133AF-6947-4335-99AE-B3D477D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31000-A25B-4ACA-B8D6-F3F18252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B30F1-A4C2-49FC-879F-26B7D031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81E3B-4944-4902-A311-988B3E9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CB5DA-C861-4178-9004-370FAB31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D9A97-8003-450E-A896-B0C71FB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DBF04-E015-4307-96C6-1D52A18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726A2-E6F0-4700-8E58-F831714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2ECFF-1C0F-4E1B-BCE9-85B7F4F0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92B94-47F4-45FA-9493-6448263B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C8A-7B69-4B32-841C-AB81849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1E1B1-9269-4B14-B6AE-7C68D7DD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1BF7-ED9E-4932-83F2-938EEFC5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7E4B-1690-49FF-B042-E6D6F9B7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552D-E184-4F49-A644-F44CAAC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CD1A-52D0-45C0-8C94-B056BE2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5BAC7-C7D9-4AD9-A4FC-0D65F6FD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DC50-FC50-47E1-BE41-44133CC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9FED4-D60A-45EF-B471-8C58FD37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647E1-A7C2-4F0B-9082-7E46629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88A4-4C71-466E-845E-A6D863F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0D9-623A-4767-9630-0CF7B76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BCC6-F4CD-4BE5-A3AA-BA824B00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CC63-1BB9-4B59-BB27-2A4DB4BC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5068-E8D4-4F40-AB96-4BFCB7E3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B6BB6-6A01-4D77-9677-D522AB9E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2A78C-ECBD-4CA0-92F4-174D9395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F2EAD-FD79-423E-A009-9E83311B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0C703-A805-4889-AA63-9BA1331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65D76-85F0-4359-9D0D-CEC8700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4BAB4-D678-4F49-A2C7-B86E85A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C0693-A82D-4B47-AAED-9E1087B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EAF-3D89-4EFA-97CE-9F0EA2D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5C1AF-98E5-4421-8E87-58398E4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BA2C6-42D1-4FEC-865B-B20FB50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D0CF4-F4DA-4F5A-A30C-6EA493E7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96CA2-5442-48A8-8A52-BBA0919F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F79F4-66D5-46F4-A278-69595AC9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9D42-CDAA-4E64-8F32-027EEDAC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9B99-5657-4ECD-84C7-1503928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194D8-7CE7-4A59-A6D2-F160AA0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F5505-0D1A-4404-902E-286F0FE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A3B23-F686-4873-8D0C-3D8674F9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8F5-5A1A-4547-A01C-DCC8C1DE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D1495-0C82-4CE7-AD78-983B9E8D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899E4-37DC-49C7-8C36-8DEE2B8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2DF2-CCEE-45D4-AF73-3BB9C21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F2C2-2040-49A9-835A-61222C1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D654A-3DC3-4890-AEE1-55E0C3FB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7286-00FF-4781-90AB-BB49D0A4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4629-223F-45E9-BB80-1FD7D1B6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8BBA-3BD8-4D09-8790-CCB8BFEBB6F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79E-317E-4B91-AA91-47A11E239F4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74E-CD73-4915-8EC2-8FA9828FE5F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055-BE3A-41BA-BE12-0E50CB428E7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A2EE-847D-4E73-BD98-22D78E0327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A5E9-A65A-4220-95FD-5AB32946BAA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2EA0-33E7-42E8-86AA-86DE8582720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083-0771-425C-AE83-BD88B8F239D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bcya.com/word_clouds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ditout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gxedo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USING WORD CLOUDS TO TEACH VOCABULAR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BCYa       WordCloudIt       Tagxed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0" y="6172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.A.T.T. January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USING WORD CLOUDS TO TEACH VOCABULAR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BCYa       WordCloudIt       Tagxed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0" y="6172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.A.T.T. January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Isosceles Triangle 4"/>
          <p:cNvSpPr/>
          <p:nvPr/>
        </p:nvSpPr>
        <p:spPr>
          <a:xfrm>
            <a:off x="3657600" y="2133720"/>
            <a:ext cx="1517760" cy="1066680"/>
          </a:xfrm>
          <a:prstGeom prst="triangle">
            <a:avLst>
              <a:gd name="adj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6"/>
          <p:cNvSpPr/>
          <p:nvPr/>
        </p:nvSpPr>
        <p:spPr>
          <a:xfrm>
            <a:off x="1676520" y="2133720"/>
            <a:ext cx="5333760" cy="0"/>
          </a:xfrm>
          <a:prstGeom prst="line">
            <a:avLst/>
          </a:prstGeom>
          <a:ln w="475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523880" y="838080"/>
            <a:ext cx="243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ighe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6095880" y="11430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ord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BCYA </a:t>
            </a:r>
            <a:br>
              <a:rPr sz="3600"/>
            </a:br>
            <a:r>
              <a:rPr b="0" lang="en-US" sz="36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bcya.com/word_clouds.htm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Content Placeholder 2" descr="C:\Users\staycle\Desktop\MyCloud.jpeg"/>
          <p:cNvPicPr/>
          <p:nvPr/>
        </p:nvPicPr>
        <p:blipFill>
          <a:blip r:embed="rId2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ord It Out </a:t>
            </a:r>
            <a:br>
              <a:rPr sz="4000"/>
            </a:br>
            <a:r>
              <a:rPr b="0" lang="en-US" sz="4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orditout.com/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C:\Users\staycle\Desktop\WordItOut-Word-cloud-18554.pn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agxedo </a:t>
            </a:r>
            <a:br>
              <a:rPr sz="4000"/>
            </a:br>
            <a:r>
              <a:rPr b="0" lang="en-US" sz="4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tagxedo.com/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C:\Users\staycle\Desktop\PATT Tagxedo.jpg"/>
          <p:cNvPicPr/>
          <p:nvPr/>
        </p:nvPicPr>
        <p:blipFill>
          <a:blip r:embed="rId2"/>
          <a:stretch/>
        </p:blipFill>
        <p:spPr>
          <a:xfrm>
            <a:off x="1295280" y="1554120"/>
            <a:ext cx="64771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arzano’s 6 Steps Process for Teaching New Term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 provides a description, explanation, or example of the new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s restate the description, explanation, or example in their own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k students to construct a picture, symbol, or graphic representing the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iodically ask students to discuss the terms with one anot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volve students periodically in games that allow them to pl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.A.T.T. members ideas for using word clouds to teach vocabular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360" y="1600200"/>
            <a:ext cx="8302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s a pre-assessment, students create a word cloud of vocabulary words that they are not familiar with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reate a word cloud in a shape that represents the vocabulary list (tagxedo only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tudents type the vocabulary word and the key word next to it (use ~ to connect two word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reate many word clouds and then put them side-by-si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tudents create a word cloud describing a specific vocabulary word. The class states the vocabulary word described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reate a word cloud of beginning sounds, rhyming words, or words that begin with the letter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Brainstorm examples of a specific vocabulary word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nking Ma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30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ircl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rac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bbl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uble Bubbl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ulti-flow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in idea/grou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lating facto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ow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tent Literacy Strategies/ Comprehensive Curriculum Activit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00200"/>
            <a:ext cx="876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 History Unit 4 Activit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th Grade 8 Unit 1 Activity 1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cience Grade 3 Unit 1 Activity1 and 3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ocabulary Card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914400" y="4572000"/>
            <a:ext cx="6553080" cy="1981080"/>
          </a:xfrm>
          <a:prstGeom prst="rect">
            <a:avLst/>
          </a:prstGeom>
          <a:noFill/>
          <a:ln w="5724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990720" y="4648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VOCABULAR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22:35:51Z</dcterms:created>
  <dc:creator>staycle</dc:creator>
  <dc:description/>
  <dc:language>en-US</dc:language>
  <cp:lastModifiedBy>helen</cp:lastModifiedBy>
  <dcterms:modified xsi:type="dcterms:W3CDTF">2011-01-20T21:28:31Z</dcterms:modified>
  <cp:revision>18</cp:revision>
  <dc:subject/>
  <dc:title>Using Word Clouds to teach vocabulary</dc:title>
</cp:coreProperties>
</file>